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F88-07DE-481F-9FB4-43F80C7518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CC6D-008A-445B-8767-68E637E1D68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eems such a lot of repetition in this slide sequence. Far too much on gut. Too little on lungs, liver,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497-C079-4C9B-AB34-96DD851C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F5A-BB6F-4FFA-8B2C-1DCA57B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586-80DB-40B5-844E-A9530621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3CD-B478-4D98-883F-D4F51BED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52DA-7ABD-495C-8D66-9D6D2F7E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CFA2-6EED-429E-B93E-92C8A9A8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2BC5-8B45-4A46-9B87-7EB94181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F20E-2E49-4678-B78E-0FA5577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6177-68AC-4778-AB92-B5DEEA8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57F-721D-45FE-95FF-D32E4372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735B-11E7-418B-807A-3A9DA97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846-993A-42FA-BF64-1FEFF9FD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7F76-D0DB-4EF8-9356-AF760BC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AF39-77E4-48D7-928F-16A2735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766A-03DA-49E1-92CC-B59D0789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29A5-A3C5-4840-A160-3C8336C9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D0E-6758-4204-9DE2-CD1F966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DB0C-B342-46C9-A9D4-1452DC0E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8361-DBC8-46D9-9E77-3FC97B7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B522-25C6-4046-BE21-1374D0B7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DF4C-98B7-4AA0-AB9C-15CEF19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14133-FA9F-48C2-A341-F9C9D9C1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A61-5B96-491A-94E7-9DA754B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9DEF-93D9-4D67-B1B9-5E793BB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7002-9F2C-40D9-A797-337FB6FF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A61E-71A7-4CF0-9693-582A4EC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3185-34F3-453B-BE9C-4C664C0B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A791-12D1-4D0B-87FC-CA2AE387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0A30-2181-479B-8B29-58F7E494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FA76-C6B9-44B3-8C63-3B1345F6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571-E343-44CA-A3F4-414CABA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4C5-B4B1-48F9-A314-4EDCD85F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F6F-CD2C-43EB-B994-FCE1E00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C5F-3A76-4E47-B6E4-5C97E6E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3B0-004F-41DD-A9DB-5969E32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CEB-C246-449C-97CC-1D4E905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0937-C4A5-44EA-AA6B-158821C48107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FE6F-522F-4A44-9BD2-D9AB23BC9ADA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38A5-0C5C-460D-B876-6C8AC6EACE1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603360" y="2146320"/>
            <a:ext cx="772956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472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Meckl’s diverticulu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persistance  of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small part of the yolk stal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Length : 2 inches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 Distance from caecum: 2 feet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Incidence:  2% of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4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Congenital umbilical  fistul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persistance of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all yolk stal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The umbilicus will discharge fe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-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</a:rPr>
              <a:t>Rotation clockwise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ransposi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Intestinal atresia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ue to failure of recanalization of the intest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testinal stenosi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ue incomplete recanaliza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8-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</a:rPr>
              <a:t>Duplication of the intest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duplication of segment of the intestine due to abnormal recanaliz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6991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  <a:ea typeface="Arial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Mazen\Desktop\6.jpg"/>
          <p:cNvPicPr/>
          <p:nvPr/>
        </p:nvPicPr>
        <p:blipFill>
          <a:blip r:embed="rId1"/>
          <a:stretch/>
        </p:blipFill>
        <p:spPr>
          <a:xfrm>
            <a:off x="4114800" y="380880"/>
            <a:ext cx="5029200" cy="6504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52280" y="533520"/>
            <a:ext cx="38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  <a:ea typeface="Arial"/>
              </a:rPr>
              <a:t>Development of Intest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52280" y="2057400"/>
            <a:ext cx="36576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  <a:ea typeface="Arial"/>
              </a:rPr>
              <a:t>Origi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Endoderm of midg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mucosa &amp; glan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Splanchnic secondary mesoderm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submucosa &amp; musculosa and seros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56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orphogenesis of The Midgut-hindgut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9144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Mitosis and growth elongates the distal foregut and midgut forming the intestinal loop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The loop undergoes </a:t>
            </a:r>
            <a:r>
              <a:rPr b="0" lang="en-GB" sz="3000" spc="-1" strike="noStrike">
                <a:solidFill>
                  <a:srgbClr val="ffff00"/>
                </a:solidFill>
                <a:latin typeface="Times New Roman"/>
              </a:rPr>
              <a:t>rotatation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270</a:t>
            </a:r>
            <a:r>
              <a:rPr b="0" lang="en-GB" sz="3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Times New Roman"/>
              </a:rPr>
              <a:t>anti</a:t>
            </a:r>
            <a:r>
              <a:rPr b="0" lang="en-GB" sz="3000" spc="-1" strike="noStrike">
                <a:solidFill>
                  <a:srgbClr val="ffff00"/>
                </a:solidFill>
                <a:latin typeface="Times New Roman"/>
              </a:rPr>
              <a:t>clockwise (when viewed from the front)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around the superior mesenteric artery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00720" y="907560"/>
            <a:ext cx="46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5" descr="fig"/>
          <p:cNvPicPr/>
          <p:nvPr/>
        </p:nvPicPr>
        <p:blipFill>
          <a:blip r:embed="rId1"/>
          <a:stretch/>
        </p:blipFill>
        <p:spPr>
          <a:xfrm>
            <a:off x="4411800" y="1090440"/>
            <a:ext cx="4732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2" name="Object 6" descr=""/>
          <p:cNvPicPr/>
          <p:nvPr/>
        </p:nvPicPr>
        <p:blipFill>
          <a:blip r:embed="rId1"/>
          <a:stretch/>
        </p:blipFill>
        <p:spPr>
          <a:xfrm>
            <a:off x="762120" y="1031760"/>
            <a:ext cx="7467480" cy="438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3957480" y="6172200"/>
            <a:ext cx="27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gure is from Langman’s Embry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alibri"/>
              </a:rPr>
              <a:t>Stages of development: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Preherniation st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aight midgut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idgut loop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ranial lim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dal lim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Cranial limb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mall intestine (jejunum + upper part of ile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Caudal limb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arge intestine ( lower part of ileum + caecum + appendix + ascending colon + right 2/3 transverse col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6" name="Picture 5" descr="C:\Documents and Settings\Mazen\Desktop\3.jpg"/>
          <p:cNvPicPr/>
          <p:nvPr/>
        </p:nvPicPr>
        <p:blipFill>
          <a:blip r:embed="rId1"/>
          <a:stretch/>
        </p:blipFill>
        <p:spPr>
          <a:xfrm>
            <a:off x="5027760" y="1384200"/>
            <a:ext cx="38113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808920"/>
            <a:ext cx="81532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304920"/>
            <a:ext cx="4038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Herniation st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ime:   sixth week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Caus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Small abdominal cav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Large liver and kidne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Sit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traembryonic coelom of umbilical c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tation 9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ticlockwise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ranial limb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ght limb &amp; caudal limb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eft lim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5" descr="C:\Documents and Settings\Mazen\Desktop\4.jpg"/>
          <p:cNvPicPr/>
          <p:nvPr/>
        </p:nvPicPr>
        <p:blipFill>
          <a:blip r:embed="rId1"/>
          <a:stretch/>
        </p:blipFill>
        <p:spPr>
          <a:xfrm>
            <a:off x="4613400" y="762120"/>
            <a:ext cx="422568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alibri"/>
              </a:rPr>
              <a:t>Postherniation stage: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2193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ime:  tenth wee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eduction of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mall intestine first, large intestine second and caecum las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tation 18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ticlockwise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ght limb (small intestine)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eft  &amp; left limb (large intestine)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liferatio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ecanalization of the endoderm of the intestine occu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3" descr="C:\Documents and Settings\Mazen\Desktop\6.jpg"/>
          <p:cNvPicPr/>
          <p:nvPr/>
        </p:nvPicPr>
        <p:blipFill>
          <a:blip r:embed="rId1"/>
          <a:stretch/>
        </p:blipFill>
        <p:spPr>
          <a:xfrm>
            <a:off x="4114800" y="4038480"/>
            <a:ext cx="5029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alibri"/>
              </a:rPr>
              <a:t>Congenital anomalies: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066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genital umbilical hern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presence of defect in the anterior abdominal wall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(gastroschisis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herniation of loop of the intest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2578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omphalos (omphalocele)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ue to failure of a loop of intestine to return back to the abdominal cavity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loop of intestine coming from the base of umbilicus covered by amn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711600" cy="601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47242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0:36:30Z</dcterms:created>
  <dc:creator>Layan</dc:creator>
  <dc:description/>
  <dc:language>en-US</dc:language>
  <cp:lastModifiedBy>Safa Osman</cp:lastModifiedBy>
  <dcterms:modified xsi:type="dcterms:W3CDTF">2016-01-27T12:30:45Z</dcterms:modified>
  <cp:revision>45</cp:revision>
  <dc:subject/>
  <dc:title>Development of Intestines</dc:title>
</cp:coreProperties>
</file>